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BDAC-F185-4823-83C7-069B499F27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亮亮图文旗舰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liangliangtuwen.tmal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0518-E43A-42AF-8F31-08BD6C6731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BC6-5698-4B85-BB20-3C3A9F0C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4E0-69A4-4A4D-BBF1-FD9138B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E3C-74B1-44EE-9CD9-C7B752FE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D6A-93D5-4623-B62A-FC2B8286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03C-2AA8-485E-9E9C-2943B5D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9C9-E4BD-4CC9-9F81-0605CF22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10F-E292-4AE9-B83B-730B205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171-0646-4CC5-A1BF-44E16C3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6D7-D3D0-4F6C-A2DF-A43AEE4E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987-83DB-4D71-B885-4DD78BA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D6B-3703-4AEB-9C45-8AFA11F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91F-0482-4ACE-BF3A-2F485451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B404-745A-48E3-8B15-5DED8DD9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亮亮图文旗舰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liangliangtuwen.tmal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cp:keywords/>
  <dc:language>en-US</dc:language>
  <cp:lastModifiedBy>Administrator</cp:lastModifiedBy>
  <dcterms:modified xsi:type="dcterms:W3CDTF">2017-07-13T17:48:5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